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2F5-CB11-49E9-941E-3FC4595F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D21-E9FF-4B1F-98CE-7C11D473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0D6-E2A4-400A-AB14-013F58E3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E95-7CBC-4C59-B642-5DA9AE5C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0EF-FACA-4031-A1A8-B66BEEA9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59D-2FBE-4587-B9AA-08D1F072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9A0-5B7F-469B-B302-AB01AE94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8BC-47B5-4B09-AC4D-8E3D72FB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6D4-609F-4E61-8EC0-6555E810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E42-E94E-4AB8-953E-FE6582DE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C0C-466D-4BC4-82BD-253E12AF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4AB-2BE0-40A4-8D02-86D36C4B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AB78-991A-4C9A-853E-D7C24391E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981000"/>
            <a:ext cx="66247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d9"/>
                </a:solidFill>
                <a:latin typeface="Century Gothic"/>
              </a:rPr>
              <a:t>Landcare: Where to now</a:t>
            </a:r>
            <a:r>
              <a:rPr b="0" lang="en-US" sz="2000" spc="-1" strike="noStrike">
                <a:solidFill>
                  <a:srgbClr val="ffffd9"/>
                </a:solidFill>
                <a:latin typeface="Century Gothi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805360"/>
            <a:ext cx="662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d9"/>
                </a:solidFill>
                <a:latin typeface="Century Gothic"/>
              </a:rPr>
              <a:t>Professor Allan Cu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066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nging social context: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Landcare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6986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 of rapid change in almost all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turnover in property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x of new owners and non-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bsentee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ty around adaptation to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urbanisation of many land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perty turnover: Corangamite cat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2233440"/>
            <a:ext cx="4032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government property sales records 1995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of properties have been sold in the last de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will change hands (2006-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% had lived outside the district where their property is located prior to purchasing their proper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4248360" cy="258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92720" y="5516640"/>
            <a:ext cx="52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cent of properties being sold each year in the Corangamite catch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268280"/>
            <a:ext cx="633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Where are they coming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19280" y="2228760"/>
          <a:ext cx="6256440" cy="3994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2228760"/>
                    <a:ext cx="6256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68280"/>
            <a:ext cx="633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Where are they coming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7570800" cy="385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21000"/>
                    <a:ext cx="7570800" cy="3851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080" y="1267920"/>
            <a:ext cx="565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table social struc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55640" y="2349360"/>
          <a:ext cx="7715160" cy="4108680"/>
        </p:xfrm>
        <a:graphic>
          <a:graphicData uri="http://schemas.openxmlformats.org/drawingml/2006/table">
            <a:tbl>
              <a:tblPr/>
              <a:tblGrid>
                <a:gridCol w="1550880"/>
                <a:gridCol w="1401840"/>
                <a:gridCol w="1679760"/>
                <a:gridCol w="1541160"/>
                <a:gridCol w="1541520"/>
              </a:tblGrid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mm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rangam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ve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NE 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oulburn Broken Dry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an length of resid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6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nd to sell all/ most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nt to acquire more 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urnover next 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1267920"/>
            <a:ext cx="630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amily succession will occu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2924280"/>
          <a:ext cx="8422920" cy="2367000"/>
        </p:xfrm>
        <a:graphic>
          <a:graphicData uri="http://schemas.openxmlformats.org/drawingml/2006/table">
            <a:tbl>
              <a:tblPr/>
              <a:tblGrid>
                <a:gridCol w="1694160"/>
                <a:gridCol w="1683000"/>
                <a:gridCol w="1679760"/>
                <a:gridCol w="1683000"/>
                <a:gridCol w="1683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mm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rangam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vens in NE 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oulburn Broken Dry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nd to pass on in 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ave a succession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at least halfw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at least half w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family agr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family agre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ccupation, income and profi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2133720"/>
          <a:ext cx="8229600" cy="4638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h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on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total income above $50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total income from on-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turnover next 10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8 yrs median resid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2 yrs median resid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99036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ost landholders are farm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3538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mmera –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angamite – 5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ns – 5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ulburn-Broken – 5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in some areas non-farmers hold most of the land: land which is often critical to N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211640" y="2617920"/>
            <a:ext cx="4788000" cy="338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5640" y="1267920"/>
            <a:ext cx="6948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arm income crucial to viabi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2276640"/>
          <a:ext cx="8353440" cy="3709800"/>
        </p:xfrm>
        <a:graphic>
          <a:graphicData uri="http://schemas.openxmlformats.org/drawingml/2006/table">
            <a:tbl>
              <a:tblPr/>
              <a:tblGrid>
                <a:gridCol w="1511280"/>
                <a:gridCol w="1729080"/>
                <a:gridCol w="1774800"/>
                <a:gridCol w="1670040"/>
                <a:gridCol w="1668240"/>
              </a:tblGrid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mm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rangam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ve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NE 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oulburn Broken Dry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n-property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n / off property inc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entury Gothic"/>
                        </a:rPr>
                        <a:t>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proper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4 times </a:t>
                      </a:r>
                      <a:r>
                        <a:rPr b="1" lang="en-US" sz="1600" spc="-1" strike="noStrike">
                          <a:solidFill>
                            <a:srgbClr val="ff5050"/>
                          </a:solidFill>
                          <a:latin typeface="Century Gothic"/>
                        </a:rPr>
                        <a:t>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5050"/>
                          </a:solidFill>
                          <a:latin typeface="Century Gothic"/>
                        </a:rPr>
                        <a:t>Of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5 times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entury Gothic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5050"/>
                          </a:solidFill>
                          <a:latin typeface="Century Gothic"/>
                        </a:rPr>
                        <a:t>Of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propert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5 times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entury Gothic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crease in property value past 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4360" y="2189160"/>
          <a:ext cx="7704000" cy="4408560"/>
        </p:xfrm>
        <a:graphic>
          <a:graphicData uri="http://schemas.openxmlformats.org/drawingml/2006/table">
            <a:tbl>
              <a:tblPr/>
              <a:tblGrid>
                <a:gridCol w="2985840"/>
                <a:gridCol w="2197080"/>
                <a:gridCol w="252108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ew proper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wner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(19%, n=7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onger-term property owner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(8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armer as occu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edian area land manag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4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edian hours week farm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6 hr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0 hr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edian days paid off-farm work/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00 days/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0 days/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ake an on-property  pro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edian profit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ess than  $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$30,000 to $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ember of Landc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incipal place of res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edian 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cial &amp; farming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378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43192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ront the revision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partnership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72040" y="2666880"/>
            <a:ext cx="35323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68280"/>
            <a:ext cx="77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perty turnover changes the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ability of networks and local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rought policy when los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ustry extension/ train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MA and landcare plans: Who’se values drive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l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jection of new people, ideas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care has been a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care an important part of policy mix for effective regional N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articulating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usta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regions address changing social re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496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onfront the revisi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43192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ne that, lets move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dn’t work, didn’t fix th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strategic (vegemite appro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MAs can engage landholder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orangamite workshop.JPG"/>
          <p:cNvPicPr/>
          <p:nvPr/>
        </p:nvPicPr>
        <p:blipFill>
          <a:blip r:embed="rId2"/>
          <a:stretch/>
        </p:blipFill>
        <p:spPr>
          <a:xfrm>
            <a:off x="4500720" y="2505240"/>
            <a:ext cx="4186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817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elebrat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sed a large cross section of rural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d dialogue, learning, planning and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 of success across all outcom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341000"/>
            <a:ext cx="817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elebrate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8064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 investment in landcare through N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talyst for change in agricultural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st effective delivery mechanism for large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care has demonstrated that it should be part of the mix of policy options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236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at might be the future for Landc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05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for learning about sustainability, including how to adapt to drought/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 to effectively engage the next generation of land managers in learning about N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st effective way of accomplishing change at the district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etting regional NRM partnership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058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odies do the regional planning, allocate priorities, ensure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care engage landholders in learning, planning and action at distric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alistic expectations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058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have a more sophisticated ars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A Boards and staff have difficul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the benefits of regio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se value of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ustain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268280"/>
            <a:ext cx="79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ustain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47640" y="2060640"/>
            <a:ext cx="7058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needed to support volunteer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organis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grou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989000"/>
            <a:ext cx="7704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1989000"/>
            <a:ext cx="1512720" cy="0"/>
          </a:xfrm>
          <a:prstGeom prst="line">
            <a:avLst/>
          </a:prstGeom>
          <a:ln w="98280">
            <a:solidFill>
              <a:srgbClr val="000066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00:03:18Z</dcterms:created>
  <dc:creator>Network Systems</dc:creator>
  <dc:description/>
  <dc:language>en-US</dc:language>
  <cp:lastModifiedBy>Sam Archer</cp:lastModifiedBy>
  <dcterms:modified xsi:type="dcterms:W3CDTF">2007-08-17T03:32:02Z</dcterms:modified>
  <cp:revision>188</cp:revision>
  <dc:subject/>
  <dc:title>Slide 1</dc:title>
</cp:coreProperties>
</file>